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135-43E3-4197-951E-2079CEFE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820-6AE8-4AFE-80F6-05118768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33C-4455-4CF3-81C0-2070B515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97C-3DB3-47AE-84F1-B9EFE3C8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4DC-2D30-4EF7-AE6A-0BBD3326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B56-2BAB-4E7D-B0D3-C473AD1D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7A4-FE54-43E6-A181-8F918ED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C6B-B9C0-4553-9FAD-C101E5D6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4C3-4891-45B3-B6AC-36E03C99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4CC-E371-47BE-8AB4-3078365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4BD-4BF3-4124-AEBA-D8C8C4F8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1EE-3EE9-42D3-A543-4B46C867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AC0-4CD6-44A2-9383-84AA13B2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151920"/>
            <a:ext cx="8229600" cy="6553800"/>
            <a:chOff x="380880" y="151920"/>
            <a:chExt cx="8229600" cy="6553800"/>
          </a:xfrm>
        </p:grpSpPr>
        <p:sp>
          <p:nvSpPr>
            <p:cNvPr id="42" name=""/>
            <p:cNvSpPr/>
            <p:nvPr/>
          </p:nvSpPr>
          <p:spPr>
            <a:xfrm>
              <a:off x="6629400" y="2438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441972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800" y="243828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4572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48320" y="4572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610480" y="2438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64008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66880" y="4572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2320" y="685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685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2666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5288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152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95480" y="67057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2320" y="4568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362320" y="441936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880" y="24379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572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44197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666880" y="15192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152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419720" y="64004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6400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220968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648320" y="2209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62320" y="61722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648320" y="61718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4191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8:01Z</dcterms:created>
  <dc:creator>107632</dc:creator>
  <dc:description/>
  <dc:language>en-US</dc:language>
  <cp:lastModifiedBy>Dina Winterton</cp:lastModifiedBy>
  <dcterms:modified xsi:type="dcterms:W3CDTF">2010-03-24T18:33:04Z</dcterms:modified>
  <cp:revision>7</cp:revision>
  <dc:subject/>
  <dc:title>Slide 1</dc:title>
</cp:coreProperties>
</file>